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png" ContentType="image/png"/>
  <Override PartName="/ppt/media/image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223-FB81-4E86-BBEF-6EE1F92D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1731-F167-4EDC-AAC2-38FA14AD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E67D-DAC9-4026-AC77-E82969CE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ACF0-9C1F-4256-BED0-451298B1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2A41-38E5-4958-B969-F69696FF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8A30-7C86-4FC6-B091-4B4A1CE8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8A1-3480-413E-94D5-5F61D044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B9B-ABDB-451A-9DC0-40274E36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890-092B-42CC-8A3D-5D9D26C6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D0F6-16CB-49EF-82C4-880B45A7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50F-94F3-4A76-B236-03948348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6FF-604B-4060-A3DF-390BD8D9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E648-9070-41B6-82BD-9DCC0E921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Nyala"/>
              </a:rPr>
              <a:t>Basics Of Aquatic Pho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igh Tower Text"/>
              </a:rPr>
              <a:t>Shooting Mo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High Tower Text"/>
              </a:rPr>
              <a:t>Auto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 the camera decides for you the best shutter speed/aperture set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High Tower Text"/>
              </a:rPr>
              <a:t>Shutter Priority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 You to decide the shutter speed and the camera decides the best aper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High Tower Text"/>
              </a:rPr>
              <a:t>Aperture Priority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 You to choose the aperture and the camera decides the best shutter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High Tower Text"/>
              </a:rPr>
              <a:t>Manual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 You have complete creative control in selecting both the shutter and aper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High Tower Text"/>
              </a:rPr>
              <a:t>Scene Modes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 Pre-set exposure control (shutter/aperture combination, plus other adjustments, such as white balance, exposure compensation, etc.) for various common picture situations, such as Night Scene, Portrait, Landscape, Actio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igh Tower Text"/>
              </a:rPr>
              <a:t>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Choose a focus point midway in your depth of fiel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Focus on the ey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Keep the lens perpendicular to the aquarium glass </a:t>
            </a: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(or water surface)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to reduce distor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Curved glass may require more working distance  between the subject and cam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14400" y="4800600"/>
          <a:ext cx="3352680" cy="17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800600"/>
                    <a:ext cx="335268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349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igh Tower Text"/>
              </a:rPr>
              <a:t>When To Use Fl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High Tower Text"/>
              </a:rPr>
              <a:t>Do not use flash for coral!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an help compensate lighting for an activ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ash can also be used to isolate a subject from the backg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f possible, point the flash from above (off camera).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62320" y="3505320"/>
            <a:ext cx="411480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igh Tower Text"/>
              </a:rPr>
              <a:t>Whit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The ability to adjust colors based on white as a reference - in the process, all the other colors are also corr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igh Tower Text"/>
              </a:rPr>
              <a:t>Aquarium lights can throw off white bal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Know your lights K rating </a:t>
            </a:r>
            <a:r>
              <a:rPr b="0" lang="en-US" sz="1400" spc="-1" strike="noStrike">
                <a:solidFill>
                  <a:srgbClr val="000000"/>
                </a:solidFill>
                <a:latin typeface="High Tower Text"/>
              </a:rPr>
              <a:t>(color tempertur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Shoot RAW and adjust la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Custom White Balance in the camera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 G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3886200" cy="2589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724280" y="3962520"/>
            <a:ext cx="388620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igh Tower Text"/>
              </a:rPr>
              <a:t>Where To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High Tower Text"/>
              </a:rPr>
              <a:t>Tripods For Corals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ISO 2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Aperture to capture su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Adjust shutter speed for proper expo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High Tower Text"/>
              </a:rPr>
              <a:t>No Flash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Highest usable IS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High Tower Tex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May have to compensate with larger aper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Use Aperture Priority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High Tower Text"/>
              </a:rPr>
              <a:t>Flashy Fi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ISO 200 / Flash Sync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Aperture to capture su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Adjust flash / exposure comp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038480" y="1523880"/>
            <a:ext cx="1455840" cy="2186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3283200" cy="2187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419112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igh Tower Text"/>
              </a:rPr>
              <a:t>Preparing 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Plan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What Are You Photographing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Tank Maintenance The Day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Clean Outside 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Turn Off Pumps &amp; Power H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Allow Tank To Se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48280" y="1600200"/>
            <a:ext cx="3236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igh Tower Text"/>
              </a:rPr>
              <a:t>Time Of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Glare From Outside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Reflection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Wear Dark Clot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When Are Fish Most Ac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When Are Coral Polyps Extend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47246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igh Tower Text"/>
              </a:rPr>
              <a:t>Camera G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High Tower Text"/>
              </a:rPr>
              <a:t>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Trip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Remote Shutter Cable / Time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High Tower Text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Underwater Photo Bo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Macro Lens For Clos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amera Flash </a:t>
            </a:r>
            <a:r>
              <a:rPr b="0" i="1" lang="en-US" sz="1600" spc="-1" strike="noStrike">
                <a:solidFill>
                  <a:srgbClr val="000000"/>
                </a:solidFill>
                <a:latin typeface="High Tower Text"/>
              </a:rPr>
              <a:t>(fish only)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146240" y="517680"/>
          <a:ext cx="596880" cy="671400"/>
        </p:xfrm>
        <a:graphic>
          <a:graphicData uri="http://schemas.openxmlformats.org/drawingml/2006/table">
            <a:tbl>
              <a:tblPr/>
              <a:tblGrid>
                <a:gridCol w="596880"/>
              </a:tblGrid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95359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0" lang="en-US" sz="3000" spc="-1" strike="noStrike">
                          <a:solidFill>
                            <a:srgbClr val="495359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0" lang="en-US" sz="800" spc="-1" strike="noStrike">
                          <a:solidFill>
                            <a:srgbClr val="495359"/>
                          </a:solidFill>
                          <a:latin typeface="Tahoma"/>
                          <a:ea typeface="Tahoma"/>
                        </a:rPr>
                        <a:t>         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54673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igh Tower Text"/>
              </a:rPr>
              <a:t>Aper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Aperture is the diameter of the lens opening – works like an iri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Expressed as</a:t>
            </a:r>
            <a:r>
              <a:rPr b="1" lang="en-US" sz="2100" spc="-1" strike="noStrike">
                <a:solidFill>
                  <a:srgbClr val="000000"/>
                </a:solidFill>
                <a:latin typeface="High Tower Text"/>
              </a:rPr>
              <a:t> F-stop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, ( f/1.8, f/2.8, f4, f/5.6, f/8, f/11, f/16, etc. 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The larger the diameter, the faster the light reaches camera’s sensor.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The smaller the F-stop number (or f/value), the larger the lens opening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A lens with an aperture of f/2.8 is faster than one at f/5.6 and allows more flexibility to freeze ac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828800" y="3962520"/>
          <a:ext cx="538812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962520"/>
                    <a:ext cx="538812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igh Tower Text"/>
              </a:rPr>
              <a:t>Shutter Spe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Adjusting the shutter speed can help to control the movement of an objec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Faster action requires a larger shutter speed to freeze movement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Shutter speed can be adjusted for technical as well as creative sty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Aperture and shutter speed go hand in hand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4232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igh Tower Text"/>
              </a:rPr>
              <a:t>Depth Of Fiel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Depth of field is the result of the speed of light collected when defining the apertu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The larger the aperture, the faster the shutter speed needs to be in order to correctly expose the imag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Depth of Field can be used to isolate a subject from an otherwise busy backgroun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There is no wrong way to take a photo – be creative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48320" y="1600200"/>
          <a:ext cx="4038480" cy="21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0200"/>
                    <a:ext cx="4038480" cy="21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648320" y="3886200"/>
            <a:ext cx="40417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igh Tower Text"/>
              </a:rPr>
              <a:t>I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ISO is the sensitivity of the camera sensor to ligh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The higher the ISO the more sensitive the shutter will b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ISO can help compensate for hard lighting conditions or fast mo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High Tower Text"/>
              </a:rPr>
              <a:t>Trade-off: The higher the ISO the more grainy the image will becom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A camera with a larger image sensor can produce a cleaner picture at higher IS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98440" y="632448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4.0, 1/30, ISO 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97720" y="36576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4.0, 1/200, ISO 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876920" y="1349280"/>
            <a:ext cx="3429000" cy="2284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876920" y="3962520"/>
            <a:ext cx="342900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igh Tower Text"/>
              </a:rPr>
              <a:t>Expos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ef Aquariums can produce harsh light with white substr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he human eye can perceive 10 f-stops of light.  Camera sensors can only see 5 f-stops.  This is referred to as dynamic r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Adjust your camera settings to ensure you are within the dynamic range of your camer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ome cameras will display areas with blown highlights when reviewing photos tak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14640" y="1600200"/>
            <a:ext cx="29718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62120" y="4572000"/>
            <a:ext cx="4422600" cy="1890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562720" y="1600200"/>
            <a:ext cx="312084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00:39:00Z</dcterms:created>
  <dc:creator>Jennifer Prince / jenniferprince@austin.rr.com</dc:creator>
  <dc:description/>
  <dc:language>en-US</dc:language>
  <cp:lastModifiedBy>Jennifer</cp:lastModifiedBy>
  <dcterms:modified xsi:type="dcterms:W3CDTF">2009-10-20T12:05:10Z</dcterms:modified>
  <cp:revision>11</cp:revision>
  <dc:subject/>
  <dc:title>Basics Of Aquatic Photography</dc:title>
</cp:coreProperties>
</file>